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D3C-95AE-47B9-AB68-51F2624B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C6D-7CC0-41C1-9E12-89A11C5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80C-D4B0-436B-A5DE-8D7892FD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280-DFAB-4BF3-A174-3950A260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A10-6E68-4D7E-AA7C-B4DE659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D96-75B9-4BE6-BA3D-5E5F3ED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2C6-6541-4913-AE7E-148180C6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C3A-FB38-4B3B-872C-DE4524C1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978-03E1-40CB-9F37-623908E8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A18-F523-44E8-804F-732BA7D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CA0-4C17-42A0-8652-B2DD4313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073-607D-4211-96A7-411477B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B613-A7E3-4E93-BD22-1075135632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onnie Campbell</cp:lastModifiedBy>
  <dcterms:modified xsi:type="dcterms:W3CDTF">2006-07-24T02:17:32Z</dcterms:modified>
  <cp:revision>8</cp:revision>
  <dc:subject/>
  <dc:title>Password</dc:title>
</cp:coreProperties>
</file>